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pplause.wav" ContentType="audio/x-wav"/>
  <Override PartName="/ppt/media/CHIMES.WAV" ContentType="audio/x-wav"/>
  <Override PartName="/ppt/media/PROJCTOR.WAV" ContentType="audio/x-wav"/>
  <Override PartName="/ppt/media/explode.wav" ContentType="audio/x-wav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D55-A2CC-40BD-8BE2-09A485DF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9B2-0C6E-45E3-954C-6F8CBF0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5B2-BFDD-4920-B93E-AEF67A44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6F0-36B6-40EB-B8F6-60F35D1F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D0E9-B54B-4657-BA89-7C108165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718F-9B17-4221-A0AE-D9F059EB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7E5F-B726-43F1-BFFA-A3F49188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93AF-3D77-49BA-942D-795A3BCA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E427-608C-4400-B562-4A94A47A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65ED-02D5-47BE-A70A-DF4192C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8F58-B7EB-4C73-984F-24BE1409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256-3C58-4658-BEAD-2133468F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0F52-960F-4CE1-BCBF-CC35D1B6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20E2-94F2-4831-B045-D5C73CAD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E571-2AAF-4C55-AF41-3A07E1C3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5506-9DF6-489D-9613-7AD4C7BF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1FBB-E687-4B0C-9DB6-00F58090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32D9-1DF6-4452-9E02-B1FD6450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3957-320B-43BA-90EE-467660F8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55D6F-BE9E-4044-A2AC-2A2F4C30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9EEB-1A73-4D36-8FF5-AA8CD148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123C-62FC-4294-81D7-91A22BD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023-1D21-4C8D-B02A-7E240356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18BD-EDCE-4880-B9B1-FE1B1133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AFA8-6F37-47CD-BA8A-07B82CD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EDD3-A05F-464B-B7EC-C4E87183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E4A3-9CD6-4814-B82B-FECB80A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A3953-6BFB-49CC-BCFF-6B2A5FD8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3D970-A606-45BC-9044-00C49918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EC72-1796-47D7-A215-55E1B5AD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614-C264-4B12-A033-2A2CF067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3AE-9635-49C2-8880-74592549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B51-115C-4316-846E-0CB9AA6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B97-16FB-411C-89C3-0DAF3EE8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960-EB7F-4401-8F0A-A6D07D50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01A-D405-4AC0-8FC5-1F2092D4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4666-F0AA-4404-B30F-895ECABA197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168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ategorie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5c44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2ACF-98BC-4B16-886E-612EA151998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F900-7939-434F-B264-077A7864F5E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slide" Target="slide35.xml"/><Relationship Id="rId7" Type="http://schemas.openxmlformats.org/officeDocument/2006/relationships/slide" Target="slide25.xml"/><Relationship Id="rId8" Type="http://schemas.openxmlformats.org/officeDocument/2006/relationships/slide" Target="slide15.xml"/><Relationship Id="rId9" Type="http://schemas.openxmlformats.org/officeDocument/2006/relationships/slide" Target="slide5.xml"/><Relationship Id="rId10" Type="http://schemas.openxmlformats.org/officeDocument/2006/relationships/slide" Target="slide33.xml"/><Relationship Id="rId11" Type="http://schemas.openxmlformats.org/officeDocument/2006/relationships/slide" Target="slide23.xml"/><Relationship Id="rId12" Type="http://schemas.openxmlformats.org/officeDocument/2006/relationships/slide" Target="slide13.xml"/><Relationship Id="rId13" Type="http://schemas.openxmlformats.org/officeDocument/2006/relationships/slide" Target="slide3.xml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2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1760" y="3730320"/>
            <a:ext cx="8077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762120"/>
            <a:ext cx="3706920" cy="2176200"/>
          </a:xfrm>
          <a:prstGeom prst="rect">
            <a:avLst/>
          </a:pr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achment, Infection, Replication, Assembly, Cell Lysi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ecause HIV and the Common Cold are RNA viruses and they mutate too ofte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</a:t>
            </a:r>
            <a:br>
              <a:rPr sz="36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y are vaccines for HIV and the common cold not effectiv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names and three general shapes of Eubacteri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ack Tear Eya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1920" y="2324160"/>
            <a:ext cx="7315200" cy="31345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cillus – Ro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ccus – Spher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irilla – Spir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61920" y="2324160"/>
            <a:ext cx="7315200" cy="338580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kingdom which bacteria were placed in for the both the 5 kingdom classification and then the two kingdoms for the 6 kingdom clas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61920" y="2324160"/>
            <a:ext cx="7315200" cy="28486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ve kingdom – Moner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x Kingdom – Eubacteria and Archaebacteri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structure of a gram negative cell wall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>
            <a:hlinkClick r:id="rId2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thin layer of peptidoglycan covered by an extra layer of either protein or lipid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three forms of genetic recombinati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1056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6080" y="538308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0520" y="538308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2" action="ppaction://hlinksldjump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640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228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3" action="ppaction://hlinksldjump"/>
              </a:rPr>
              <a:t>5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1056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56080" y="4403880"/>
            <a:ext cx="155448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0520" y="4403880"/>
            <a:ext cx="155556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640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228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4" action="ppaction://hlinksldjump"/>
              </a:rPr>
              <a:t>4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1056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56080" y="342576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0520" y="342576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4640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228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5" action="ppaction://hlinksldjump"/>
              </a:rPr>
              <a:t>3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0876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5464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8720" y="244800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460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048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0876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464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8720" y="1469880"/>
            <a:ext cx="15559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1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4460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048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c44ec"/>
                </a:solidFill>
                <a:uFillTx/>
                <a:latin typeface="Times New Roman"/>
                <a:hlinkClick r:id="rId13" action="ppaction://hlinksldjump"/>
              </a:rPr>
              <a:t>10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0876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5464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98720" y="49212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460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048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0408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You can use your book (30 secs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996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The Reject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94040" y="522360"/>
            <a:ext cx="15559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lass if a 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3992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Back Tear Ey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 ‘eye’ russ i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26320" y="6278400"/>
            <a:ext cx="300240" cy="366840"/>
          </a:xfrm>
          <a:custGeom>
            <a:avLst/>
            <a:gdLst>
              <a:gd name="textAreaLeft" fmla="*/ 19440 w 300240"/>
              <a:gd name="textAreaRight" fmla="*/ 280800 w 300240"/>
              <a:gd name="textAreaTop" fmla="*/ 19440 h 366840"/>
              <a:gd name="textAreaBottom" fmla="*/ 347400 h 366840"/>
            </a:gdLst>
            <a:ahLst/>
            <a:rect l="textAreaLeft" t="textAreaTop" r="textAreaRight" b="textAreaBottom"/>
            <a:pathLst>
              <a:path w="21600" h="26386">
                <a:moveTo>
                  <a:pt x="0" y="0"/>
                </a:moveTo>
                <a:lnTo>
                  <a:pt x="21600" y="0"/>
                </a:lnTo>
                <a:lnTo>
                  <a:pt x="21600" y="26386"/>
                </a:lnTo>
                <a:lnTo>
                  <a:pt x="0" y="26386"/>
                </a:lnTo>
                <a:close/>
              </a:path>
              <a:path fill="lightenLess" w="21600" h="263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86">
                <a:moveTo>
                  <a:pt x="21600" y="0"/>
                </a:moveTo>
                <a:lnTo>
                  <a:pt x="21600" y="26386"/>
                </a:lnTo>
                <a:lnTo>
                  <a:pt x="20200" y="24986"/>
                </a:lnTo>
                <a:lnTo>
                  <a:pt x="20200" y="1400"/>
                </a:lnTo>
                <a:close/>
              </a:path>
              <a:path fill="darkenLess" w="21600" h="26386">
                <a:moveTo>
                  <a:pt x="21600" y="26386"/>
                </a:moveTo>
                <a:lnTo>
                  <a:pt x="0" y="26386"/>
                </a:lnTo>
                <a:lnTo>
                  <a:pt x="1400" y="24986"/>
                </a:lnTo>
                <a:lnTo>
                  <a:pt x="20200" y="24986"/>
                </a:lnTo>
                <a:close/>
              </a:path>
              <a:path fill="lighten" w="21600" h="26386">
                <a:moveTo>
                  <a:pt x="0" y="263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86"/>
                </a:lnTo>
                <a:close/>
              </a:path>
              <a:path fill="darken" w="21600" h="26386">
                <a:moveTo>
                  <a:pt x="14299" y="13193"/>
                </a:moveTo>
                <a:lnTo>
                  <a:pt x="3794" y="20199"/>
                </a:lnTo>
                <a:lnTo>
                  <a:pt x="3794" y="6186"/>
                </a:lnTo>
                <a:close/>
              </a:path>
              <a:path fill="darken" w="21600" h="26386">
                <a:moveTo>
                  <a:pt x="16144" y="6186"/>
                </a:moveTo>
                <a:lnTo>
                  <a:pt x="16144" y="20199"/>
                </a:lnTo>
                <a:lnTo>
                  <a:pt x="17806" y="20199"/>
                </a:lnTo>
                <a:lnTo>
                  <a:pt x="17806" y="6186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ansformation, Conjugation, Transdu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y penicillin and tetracyline are effective in killing bacteria. (Be specifi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61920" y="2324160"/>
            <a:ext cx="7315200" cy="20257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nicillin inhibits cell wall growth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etracycline inhibits protein synthesi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2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seven levels of classification in broadest to most specific orde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assification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Kingdom, Phylum, Class, Order, Family, Genus, Spec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system of naming organisms by their genus and descriptive species nam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inomial Nomenclatur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1920" y="2324160"/>
            <a:ext cx="7315200" cy="4597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e rules for writing a scientific nam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>
            <a:hlinkClick r:id="rId2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61920" y="2324160"/>
            <a:ext cx="7315200" cy="22874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e genus name must be capitalized and the species name lower-cased but both words must italicized or underlin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three domai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number of sides on an icosahedron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7821720" y="5840280"/>
            <a:ext cx="493560" cy="55116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51160"/>
              <a:gd name="textAreaBottom" fmla="*/ 519480 h 551160"/>
            </a:gdLst>
            <a:ahLst/>
            <a:rect l="textAreaLeft" t="textAreaTop" r="textAreaRight" b="textAreaBottom"/>
            <a:pathLst>
              <a:path w="21600" h="24119">
                <a:moveTo>
                  <a:pt x="0" y="0"/>
                </a:moveTo>
                <a:lnTo>
                  <a:pt x="21600" y="0"/>
                </a:lnTo>
                <a:lnTo>
                  <a:pt x="21600" y="24119"/>
                </a:lnTo>
                <a:lnTo>
                  <a:pt x="0" y="24119"/>
                </a:lnTo>
                <a:close/>
              </a:path>
              <a:path fill="lightenLess" w="21600" h="241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19">
                <a:moveTo>
                  <a:pt x="21600" y="0"/>
                </a:moveTo>
                <a:lnTo>
                  <a:pt x="21600" y="24119"/>
                </a:lnTo>
                <a:lnTo>
                  <a:pt x="20200" y="22719"/>
                </a:lnTo>
                <a:lnTo>
                  <a:pt x="20200" y="1400"/>
                </a:lnTo>
                <a:close/>
              </a:path>
              <a:path fill="darkenLess" w="21600" h="24119">
                <a:moveTo>
                  <a:pt x="21600" y="24119"/>
                </a:moveTo>
                <a:lnTo>
                  <a:pt x="0" y="24119"/>
                </a:lnTo>
                <a:lnTo>
                  <a:pt x="1400" y="22719"/>
                </a:lnTo>
                <a:lnTo>
                  <a:pt x="20200" y="22719"/>
                </a:lnTo>
                <a:close/>
              </a:path>
              <a:path fill="lighten" w="21600" h="24119">
                <a:moveTo>
                  <a:pt x="0" y="241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19"/>
                </a:lnTo>
                <a:close/>
              </a:path>
              <a:path fill="darken" w="21600" h="24119">
                <a:moveTo>
                  <a:pt x="10800" y="160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19">
                <a:moveTo>
                  <a:pt x="11905" y="15541"/>
                </a:moveTo>
                <a:lnTo>
                  <a:pt x="11905" y="13583"/>
                </a:lnTo>
                <a:cubicBezTo>
                  <a:pt x="11905" y="12756"/>
                  <a:pt x="12236" y="12059"/>
                  <a:pt x="12837" y="12059"/>
                </a:cubicBezTo>
                <a:cubicBezTo>
                  <a:pt x="13968" y="12059"/>
                  <a:pt x="14865" y="10693"/>
                  <a:pt x="14865" y="9109"/>
                </a:cubicBezTo>
                <a:cubicBezTo>
                  <a:pt x="14865" y="6794"/>
                  <a:pt x="13011" y="5053"/>
                  <a:pt x="10800" y="5053"/>
                </a:cubicBezTo>
                <a:cubicBezTo>
                  <a:pt x="8589" y="5053"/>
                  <a:pt x="6918" y="6794"/>
                  <a:pt x="6918" y="9109"/>
                </a:cubicBezTo>
                <a:lnTo>
                  <a:pt x="8772" y="9109"/>
                </a:lnTo>
                <a:cubicBezTo>
                  <a:pt x="8772" y="7969"/>
                  <a:pt x="9695" y="7081"/>
                  <a:pt x="10800" y="7081"/>
                </a:cubicBezTo>
                <a:cubicBezTo>
                  <a:pt x="11905" y="7081"/>
                  <a:pt x="12837" y="7969"/>
                  <a:pt x="12837" y="9109"/>
                </a:cubicBezTo>
                <a:cubicBezTo>
                  <a:pt x="12837" y="9849"/>
                  <a:pt x="12367" y="10580"/>
                  <a:pt x="11905" y="10580"/>
                </a:cubicBezTo>
                <a:cubicBezTo>
                  <a:pt x="10800" y="10580"/>
                  <a:pt x="9695" y="12059"/>
                  <a:pt x="9695" y="13583"/>
                </a:cubicBezTo>
                <a:lnTo>
                  <a:pt x="9695" y="1554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 </a:t>
            </a:r>
            <a:br>
              <a:rPr sz="36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0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karya, Archae, Bacteri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61920" y="2324160"/>
            <a:ext cx="7315200" cy="22874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 current practices for developing the ancestoral relationships between organism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61920" y="2324160"/>
            <a:ext cx="7315200" cy="327276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ssil record, morphology, chromosomes, nucleotide sequences, amino acid sequence, embryological develop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3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nimal – like protists general nam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zoa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modified structure on the outside of a paramecium that serves as its outer coverin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llic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is phylum moves by method of flagell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glenaphyta or Flagellat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61920" y="2324160"/>
            <a:ext cx="7315200" cy="28130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tch the following disease with their transmitter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frican Sleeping Sickness, Chagas’ Disease, Giardiasis, Leishmia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setse Fly, Fecal Material, Sand Flies, Kissing Bu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at is 20 sid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61920" y="2324160"/>
            <a:ext cx="7315200" cy="42433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frican Sleeping Sickness – Ts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iardiasis – Fecal Mater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agas’s Disease – Kissing Bu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ishmiasis – Sand Fl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ow does a paramecium divide via conjugation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79360" y="2384280"/>
            <a:ext cx="8559720" cy="42386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aramecium Line Up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cronuclei Line up and micronuclei undergo meios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l but one micronucleus disintegrates and the remaining one replicates through mitosi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ne micronucleus from each paramecium are exchang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1500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cronuclei fuse and the paramecium separate then divi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4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irus that embeds into a host cell that is not a bacteri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1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viru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as made famous because he crystallized a tobacco mosaic viru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endell Stanle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difference between a variety and a subspecies.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61920" y="2324160"/>
            <a:ext cx="7315200" cy="36716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eties describe different plants in a spec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bspecies describe different animals in a speci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duced by gram negative bacteria and are made of lipids and carbohydrat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 </a:t>
            </a:r>
            <a:br>
              <a:rPr sz="36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nucleic acid and a protein coat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dotoxi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n emerging virus is.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Prompt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irus that only exists in isolated locations and only infect humans when humans start to invad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5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5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14400" y="2514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8963"/>
                </a:solidFill>
                <a:latin typeface="Times New Roman"/>
                <a:ea typeface="Times New Roman"/>
              </a:rPr>
              <a:t>Round 2 Are you ready????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61840" y="2389320"/>
            <a:ext cx="7459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The Daily Double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432560" y="5964120"/>
            <a:ext cx="754200" cy="363600"/>
          </a:xfrm>
          <a:custGeom>
            <a:avLst/>
            <a:gdLst>
              <a:gd name="textAreaLeft" fmla="*/ 0 w 754200"/>
              <a:gd name="textAreaRight" fmla="*/ 754560 w 7542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at is the structure of a viru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2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range in size of viru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Theme 1 Response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3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hat is 20 – 250 nanometers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a8d8ba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steps of the lytic cycle in correct orde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d2aad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 ‘eye’ russ is </a:t>
            </a:r>
            <a:br>
              <a:rPr sz="36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400 Point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6T03:27:32Z</dcterms:created>
  <dc:creator>Lynne Crandall</dc:creator>
  <dc:description>Adapted from the template provided by Serafin Coronil-Molina.</dc:description>
  <cp:keywords>jeopardy</cp:keywords>
  <dc:language>en-US</dc:language>
  <cp:lastModifiedBy>NPSD</cp:lastModifiedBy>
  <dcterms:modified xsi:type="dcterms:W3CDTF">2009-05-13T18:31:41Z</dcterms:modified>
  <cp:revision>153</cp:revision>
  <dc:subject/>
  <dc:title>Jeopardy prompt and response template</dc:title>
</cp:coreProperties>
</file>